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A4A-9DF3-411B-8281-ECA80ECE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8A6-496B-48E7-82F1-CC0EE7C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18B-C49C-4386-B90D-0CD7F78A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983-95AF-4561-BD4A-928B8D32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767-51A3-4A5E-A902-1BC5F535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103-AF33-4FBE-8D16-54D79049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B89-7CFC-447A-8E49-1A75A4EA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975-ABF6-432A-B2B0-6D71BD8C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5FA-D7CA-4509-9DEB-683149FB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AE0-DE66-407C-8FC3-76341A8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BFD-3A74-4996-A86A-8320F2F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DF6-9BB2-4F9B-AF18-41208FB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77B-9A1D-4124-9729-9BE69FE37D0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z.com/lafamillesimpson/pagefamilyimages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 famille Simp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Images de la famille Simps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005360"/>
            <a:ext cx="2162160" cy="1685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81120" y="4208400"/>
            <a:ext cx="1176480" cy="262080"/>
          </a:xfrm>
          <a:custGeom>
            <a:avLst/>
            <a:gdLst/>
            <a:ahLst/>
            <a:rect l="l" t="t" r="r" b="b"/>
            <a:pathLst>
              <a:path w="741" h="165">
                <a:moveTo>
                  <a:pt x="0" y="0"/>
                </a:moveTo>
                <a:lnTo>
                  <a:pt x="741" y="165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2444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355640" y="3573360"/>
            <a:ext cx="792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27480" y="344808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787640" y="4365720"/>
            <a:ext cx="1439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80200" y="409716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92720" y="4724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11840" y="452916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651280" y="5229360"/>
            <a:ext cx="64908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0200" y="517680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g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838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884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Hom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père de Bart, Lisa et Magg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l est stup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7520" y="3005280"/>
            <a:ext cx="143820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75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62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marg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mère de Bart, Maggie et Li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est séri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808360" cy="40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9636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41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02 0.033 -0.05872 0.058 -0.05872 C 0.095 -0.05872 0.125 -0.02269 0.125 0.02269 C 0.125 0.03737 0.122 0.05071 0.116 0.06272 C 0.117 0.06272 0 0.24289 0 0.24423 C 0 0.24289 -0.117 0.06272 -0.116 0.06272 C -0.122 0.05071 -0.125 0.03737 -0.125 0.02269 C -0.125 -0.02269 -0.095 -0.05872 -0.057 -0.05872 C -0.033 -0.05872 -0.012 -0.02402 0 0 Z">
                                      <p:cBhvr>
                                        <p:cTn id="9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B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fils de Marge et de Ho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frère de Lisa et de magg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l est amus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168720" cy="352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6436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51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Li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fille de Homer et de M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soeur de Bart et de Magg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est musicien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2592720" cy="324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82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magg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fille de Homer et de M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a soeur de Bart et de Li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le est cal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773360"/>
            <a:ext cx="2933640" cy="39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20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10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oici Abrah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père de H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’est le grand-père de Bart, Lisa et Mag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l est vie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808360" cy="324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324160" y="3710160"/>
            <a:ext cx="304920" cy="150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254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21:18:24Z</dcterms:created>
  <dc:creator>Perkins</dc:creator>
  <dc:description/>
  <dc:language>en-US</dc:language>
  <cp:lastModifiedBy>Ministry of Education</cp:lastModifiedBy>
  <dcterms:modified xsi:type="dcterms:W3CDTF">2009-05-18T23:44:51Z</dcterms:modified>
  <cp:revision>7</cp:revision>
  <dc:subject/>
  <dc:title>La famille Simpson</dc:title>
</cp:coreProperties>
</file>